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1980-67FE-4517-BC3D-0647BAE651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re are tw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repl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r membran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re are tw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repl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r membran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daughter cell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ughter cell has half the chromosomes of the 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ets of cell division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daughter cell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ughter cell has half the chromosomes of the 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ets of cell division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somatic (body)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gametes (sex cel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somatic (body)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gametes (sex cel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ing things happ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material dou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ing things happ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material dou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pair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thicken and shor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ecom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chromatids joined by a centrom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ove to the opposite sides of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pair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thicken and shor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ecom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chromatids joined by a centrom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ove to the opposite sides of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meet in the midd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range at equator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ttached to spindle fibres by centrom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chromosomes do not assoc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meet in the midd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range at equator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ttached to spindle fibres by centrom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chromosomes do not assoc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get pulled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contract pulling chromatids to the opposite poles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get pulled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contract pulling chromatids to the opposite poles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0249-0BA8-4767-B8A1-A8383988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C668-3974-4DBC-86D4-86AD4633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46A2-3C3D-401C-91A8-57101940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9191-2892-4165-A350-C985170D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E15A-723F-4619-B9E4-FE6C7756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3B8F-CEA8-4D88-ACD2-E3A38DE8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0A40-CF11-410F-B9A3-82C8AA67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0848-D967-48F8-847D-B505670C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1314-74C9-4930-B5B6-DEB6DF9C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C4F0-9497-4DAB-B3BF-46AE3CA8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E80F-1AFF-4F5E-8ADA-D8F44FBA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956A-4B6F-42A9-9933-36F0FF23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7E42-089C-47B5-95B2-E0938BA23B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lN7K1-9QB0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HH4JxGxC0s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 and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T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o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 there are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tw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unc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indle fibres disinteg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ioles repl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ucleur membrane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ll div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rcRect l="24891" t="75843" r="9333" b="7804"/>
          <a:stretch/>
        </p:blipFill>
        <p:spPr>
          <a:xfrm>
            <a:off x="0" y="4140360"/>
            <a:ext cx="9144000" cy="2717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3663720" cy="37339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0"/>
            <a:ext cx="591516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160020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 daughter cells p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ach daughter cell has half the chromosomes of the pa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sets of cell division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214200"/>
            <a:ext cx="6476760" cy="6429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 and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itos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vision of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omatic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body)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vision of gametes (sex cel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r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ta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a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el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I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ter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Interestin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ings happe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ll preparing to di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tic material dou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2743200" cy="2435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rcRect l="0" t="0" r="53562" b="82720"/>
          <a:stretch/>
        </p:blipFill>
        <p:spPr>
          <a:xfrm>
            <a:off x="762120" y="4114800"/>
            <a:ext cx="4419360" cy="19670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Pro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 </a:t>
            </a:r>
            <a:r>
              <a:rPr b="1" lang="en-GB" sz="2800" spc="-1" strike="noStrike">
                <a:solidFill>
                  <a:srgbClr val="ff0066"/>
                </a:solidFill>
                <a:latin typeface="Comic Sans MS"/>
              </a:rPr>
              <a:t>pair up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s thicken and sho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become vi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2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hromatid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oined by a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entrom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entrio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ve to the opposite sides of the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ucleolu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isapp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uclear membrane disinteg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3809880" cy="338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rcRect l="0" t="17842" r="43112" b="67294"/>
          <a:stretch/>
        </p:blipFill>
        <p:spPr>
          <a:xfrm>
            <a:off x="1219320" y="4419720"/>
            <a:ext cx="6858000" cy="21430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M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ta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meet in the middle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arrange at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quato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f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come attached to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pindle fibr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entrom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omologou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hromosome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do not assoc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rcRect l="0" t="34202" r="30670" b="50934"/>
          <a:stretch/>
        </p:blipFill>
        <p:spPr>
          <a:xfrm>
            <a:off x="0" y="4402080"/>
            <a:ext cx="8686800" cy="2227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rcRect l="0" t="28180" r="0" b="24547"/>
          <a:stretch/>
        </p:blipFill>
        <p:spPr>
          <a:xfrm>
            <a:off x="1981080" y="457200"/>
            <a:ext cx="4648320" cy="33926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get pulled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indle fibres contract pulling chromatids to the opposite poles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5791320" y="3792600"/>
            <a:ext cx="3085920" cy="3065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rcRect l="14222" t="55022" r="28889" b="28625"/>
          <a:stretch/>
        </p:blipFill>
        <p:spPr>
          <a:xfrm>
            <a:off x="228600" y="4900680"/>
            <a:ext cx="5029200" cy="17287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6:15:05Z</dcterms:created>
  <dc:creator>hhashmi</dc:creator>
  <dc:description/>
  <dc:language>en-US</dc:language>
  <cp:lastModifiedBy>LEGION2</cp:lastModifiedBy>
  <dcterms:modified xsi:type="dcterms:W3CDTF">2016-01-12T11:46:21Z</dcterms:modified>
  <cp:revision>6</cp:revision>
  <dc:subject/>
  <dc:title>Mitosis and Meiosis</dc:title>
</cp:coreProperties>
</file>